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178-70E8-4541-906D-054B5FCB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C0A-E32B-4DFE-95DE-9E243F7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511-11C9-4098-9B17-4007C5D5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614-26C2-4940-AC73-656A2D8A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B65-5C81-4C13-A0C4-84681A5F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4B2-30F7-431D-A5AA-F066A03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7A4-2EA0-438F-9B9C-47B0D91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4D4-A005-4A5A-BF14-CBF2F8C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CF4-0D37-4F7F-AD4D-E937D8A3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56A-A550-4943-B7F2-05C9F56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D86-7790-4251-9AA1-09A7458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FFE-3F1C-4606-9565-91D5412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07D-AB27-45D3-BE9E-ACDCA68AA41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yorsulás mérése szabadesés köz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on eső vonatkoztatási rendszerben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úlytalanság állap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dobás is szabadesés, más kezdőfeltéte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ellenállás befolyá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rúdra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úd stabilitást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57880" y="1981080"/>
            <a:ext cx="5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gyorsulásszenz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dat elejtjük, feldobjuk, majd elkap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badesés idejére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szabadesés köz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kapási tranzien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s a vezeték esetleges fokozott igénybevétel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48:21Z</dcterms:modified>
  <cp:revision>117</cp:revision>
  <dc:subject/>
  <dc:title>PowerPoint Presentation</dc:title>
</cp:coreProperties>
</file>