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0C2-8536-4FE3-B94B-FEF729F0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A52-5A2C-4818-A496-4701E370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261-F6E0-4B90-B0CB-CB011C33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6B2-0A66-468E-888F-D50E5B32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4CD-E1DC-440F-A487-C0862A68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2E4-C596-426C-8D68-DE28B367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A44-85CC-4518-B8B2-8EE4CBB7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4A9-CB74-4737-ACDA-CF759EE3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454-AF20-4626-A0FE-30FE7EB8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52E-8785-40E0-BE63-12A09E02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9F1-F811-4F1E-A9F8-471CD213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619-5BD4-4418-898D-44E0B82A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7239-9F46-4A34-B2E4-12885645DE0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hűlési törvény kísérleti vizsgá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próbálhatjuk folyadékka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gyeljünk a szenzor épség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özeg hőmérsékletét meg kell becsülnünk a logaritmálás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lszerű ezt állíthatóra tenni és értékét a leglineárisabb esethez igazíta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őmérséklet változási sebessége arányos a különbség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ponenciális lehű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: környe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: kezd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3280" y="1955880"/>
                <a:ext cx="3745080" cy="27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%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környező közeg felmeleged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hőátadás több közegen megy á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yugvó levegő vagy köze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ősugárz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misz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t csatornák: B (termisz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álázási adatok : termisz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avételi ráta: 1Hz (1s felbont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dőablak: 500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legítsük fel a termisztort kézzel 3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 fö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dítsuk el a méré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ad levegőn (ne érjen semmihez) hagyjuk hű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19280" y="1843200"/>
          <a:ext cx="590544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3200"/>
                    <a:ext cx="59054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916280"/>
          <a:ext cx="5193000" cy="41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519300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 txBox="1"/>
          <p:nvPr/>
        </p:nvSpPr>
        <p:spPr>
          <a:xfrm>
            <a:off x="5795640" y="1981080"/>
            <a:ext cx="26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kete: mé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os: illeszt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/0,00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léltethető: Newton-féle lehűlési törvé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áblázatkezelővel linearizálhat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enesillesztéssel az időállandó megad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3T00:35:33Z</dcterms:modified>
  <cp:revision>125</cp:revision>
  <dc:subject/>
  <dc:title>PowerPoint Presentation</dc:title>
</cp:coreProperties>
</file>