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93D-F76E-4C01-8A80-251D3479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394-CCAD-401D-AD3B-B54B3C13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1F1-7E3E-4B4C-927C-40311598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711-36B1-45C6-A853-575D3490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1A0-3695-43C3-93C8-CB64FD74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AAE-F909-4669-8A62-DE4CC324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C07-531B-4E9B-875C-C5A1CF83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01E-0DFB-4E42-B149-F2F64375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EF8-3E6D-42DA-8031-BF2708FC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382-02AE-46D6-A7F8-B3F5826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E94-8A85-4750-B7DC-1E79DC12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CDB-E4B7-4943-8280-6A48F234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68E-A726-4684-B789-EC2DEA9EFEB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Rugóra függesztett test mozgásának mérése gyorsulásszenzor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engési idő: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gyorsulásszenzorral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rugóállandó mérhet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illapodó lengési amplitúd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929120" y="2133720"/>
                <a:ext cx="343692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zte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ra tömeget függesztü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testre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sznált csatornák: A (gyorsulásszenz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üszöbszint: a nyugalmi érté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iszterézis: 0,1V (az amplitúdónál kisebb legy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ezgést elindí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ünk néhány szintmetszési idő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adatokat táblázatkezelőbe vihetjü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öbb lengési időátlagát, szórását számolhat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góállandó 1-2% pontossággal mérhet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i adatokat táblázatkezelővel dolgozhatjuk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időfügg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ugók soros, párhuzamos kapcsol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gés csillapod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ugó helyett gumiszálat is próbálhatu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csillapodási tényező függ az anyagt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mérés hibájának becslé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felbontás: 1/mintavételi r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időalap pontossága 0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37:35Z</dcterms:modified>
  <cp:revision>115</cp:revision>
  <dc:subject/>
  <dc:title>PowerPoint Presentation</dc:title>
</cp:coreProperties>
</file>