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986F4-3F22-45AC-BA08-DB7943C2D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C760F-D582-4E7A-8891-A94E9119C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60D4C-2305-4178-8658-902EDA2E0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A4A35-A581-4A92-BA5B-52D765AC2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A241C-EB81-47E0-978D-CD9CEEBEF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A19C6-C662-43C8-92AF-8D8F9D328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EAF6C-ECC1-4E01-8F09-800951127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C3407-0E0C-469B-99D0-CD0AC1510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4C3DF-39AE-4E52-A1DC-B3C224310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29E89-9EB5-4E28-AC93-280F93B76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597E2-3AA2-48EA-8145-419AD0FF6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A1AF8-1DF3-47FB-85F2-185DECE83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D32B1-CD3D-4285-8E75-36B41C1C141D}" type="slidenum"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Szabadon eső létra vizsgála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Kopasz Katalin, Makra Péter, Gingl Zoltá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www.noise.physx.u-szeged.h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Szeged, 20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Elméleti hátté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440" y="1981080"/>
            <a:ext cx="380988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Egyenletes gyorsulá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A kezdőfeltételek: </a:t>
            </a:r>
            <a:r>
              <a:rPr b="0" i="1" lang="hu-HU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hu-HU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hu-HU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hu-HU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A gyorsulás: 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647960" y="1981080"/>
            <a:ext cx="380988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Az időfüggés isme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A sebesség lineá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A megtett út parabo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2195640" y="4221000"/>
                <a:ext cx="4535280" cy="197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  <m:r>
                          <m:t xml:space="preserve">⋅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a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Mennyire igaz az elméletünk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közegellenállás számíthat, h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sebesség n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tömeg kics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felület n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Kísérleti elrendezé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1981080"/>
            <a:ext cx="5757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Vonalzó, szigetelőszal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19mm szalagszélessé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5cm periód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Fotokapuval mérhetjük a sávok kapuhoz érkezési pillanata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A megtett út sávonként 5cm-rel n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7308720" y="1989000"/>
          <a:ext cx="110340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08720" y="1989000"/>
                    <a:ext cx="11034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Mérési beállítás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Használt csatornák: B (fotokapu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Skálázási adatok : lineár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Mintavételi ráta: 1000Hz (1ms felbontá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Időablak: 1 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Küszöbszint: 2,5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Hiszterézis: 0,1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A mérés mene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 fotokaput az asztal széléhez rögztjü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 mérést elindítj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 vonalzót a kapu érzékelője előtt leejtj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Ügyeljünk a szabályos ejtés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Mérési eredménye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Összefoglalá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hu-HU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 2-3% pontossággal mérhet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 mérési adatokat táblázatkezelővel dolgozhatjuk f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 g értéke görbeillesztéssel kapható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hu-HU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) : parabo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hu-HU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) : egye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Tapasztalatok, javaslat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 parabola illesztés pontosabb eredményt 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 sebesség pontossága nagyobb értékeknél kiseb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Zoli</cp:lastModifiedBy>
  <dcterms:modified xsi:type="dcterms:W3CDTF">2010-03-22T22:59:34Z</dcterms:modified>
  <cp:revision>118</cp:revision>
  <dc:subject/>
  <dc:title>PowerPoint Presentation</dc:title>
</cp:coreProperties>
</file>